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B3536-B8A0-4327-8DEC-EBB83ABD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7A73-7768-40EB-A9A5-F83CEDD2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17D2C-9396-47AF-A807-E418CC74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9D62B-3CF2-4FDE-B3F0-DF42EA4C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F3A4-A23A-49F6-8F60-70B2A18B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1E1C-C562-40CF-9CC9-07262C40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B2F3-98A0-40CC-8A66-618CE93D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A994-1505-44EE-8679-82AF2125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6994-3905-4E4C-BD20-05D27A62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0CBD-A5E5-42C9-BE4E-B4ACC7C3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7A3A-0D7E-44CE-80C2-79AE5D72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83EC-F31B-4786-8EE0-AA2D013A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B142-D438-4029-A437-EED0C4C1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6AC4-7068-44CD-B9A8-68EFDBB5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C835-B59F-40B8-BFC6-BFA8A19E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88B8-E428-4B7E-8591-0CD87B10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FF2D-DD71-436E-8D3A-80639DA9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F7F1-448A-4FC6-A478-BCF95C5D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6005-3E86-43AE-820E-DBB55631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606B-12D8-480E-B64C-CA8E247F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4DED7-10DB-47CE-AE29-8172765D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07BF-F822-4F4A-B71B-A8158718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03E3E-218D-46D1-A96D-BEF21E12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69ED-F3BE-4543-9EDC-73031A37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A3B5-0EDA-4157-99AF-CF868018BF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5C52-F6E6-42B1-ABE2-410BBDC8E5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ina.com/" TargetMode="External"/><Relationship Id="rId2" Type="http://schemas.openxmlformats.org/officeDocument/2006/relationships/hyperlink" Target="http://www.wikipedia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  <a:ea typeface="David Transparent"/>
              </a:rPr>
              <a:t>IRS Project Presentatio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e By Randy T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search Ques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es wearing a swim cap or a swimsuit make you swim faster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ypoth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aring a swimcap and a swimsuit will make you swim fa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Background Research: International Requirements and Limita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Swimwear must be approved by FINA at least 12 months prior to any competition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No technological-doping mechanism of any kind (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compression of body, extra water-repellent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) is allowed for the swimsuit. (</a:t>
            </a:r>
            <a:r>
              <a:rPr b="1" lang="en-GB" sz="2000" spc="-1" strike="noStrike">
                <a:solidFill>
                  <a:srgbClr val="ffffff"/>
                </a:solidFill>
                <a:latin typeface="Garamond"/>
              </a:rPr>
              <a:t>e.g. the banned “Blue Seventy Nero Comp” and the banned “Speedo LZR racer swimsuit”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en-GB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The swimmer must wear only one swimsuit in one or two pieces. No additional items, like arm bands or leg bands shall be regarded as parts of a swimsui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Swimwear for men shall not extend above the navel nor below the knees, and for women, shall not cover the neck, extend past the shoulder, nor shall extend below kne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All swimsuits are to be made with textile materia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ckground Research : Factors that affect spe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ter Resi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wimmer’s Energy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water press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aracteristics of swimwear (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.g. tightness of swimwear, size of swimwear etc.)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ight of swim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rent 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rbu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kill of swim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9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9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9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9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950"/>
                            </p:stCondLst>
                            <p:childTnLst>
                              <p:par>
                                <p:cTn id="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75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925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95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800"/>
                            </p:stCondLst>
                            <p:childTnLst>
                              <p:par>
                                <p:cTn id="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6600"/>
                            </p:stCondLst>
                            <p:childTnLst>
                              <p:par>
                                <p:cTn id="7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8100"/>
                            </p:stCondLst>
                            <p:childTnLst>
                              <p:par>
                                <p:cTn id="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9525"/>
                            </p:stCondLst>
                            <p:childTnLst>
                              <p:par>
                                <p:cTn id="9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3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troversy Behind The Ques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ther wearing different types of swimwear (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.g. Swim cap, swimsui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will affect your spe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perimental Procedur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1: Swim until you are very tired. Before you start, get someone to take pictur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2: wear swimming trunks, get into the swimming pool and swim 50 meters freestyle at the surface. Take down the tim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3: Dry yourself, wear a swim cap, get into swimming pool and swim 50 meters freestyle at the surface. Record the tim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4: take off swim cap, change to swim suit, get into swimming pool and swim 50 meters freestyle at the surface. Record the tim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5: Dry yourself, wear back swim cap, get into swimming pool and swim 50 meters freestyle at the surface. Record the tim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6: Repeat step 2 to step 5 once each week for 4 more week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blems and Sol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blem no.1: As you swim more and more, you will get slower and slower until a certain speed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lution no.1: Swim until that limit, then start the experi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blem no.2: As the water pressure increases as you swim deeper, it will affect your speed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lution no.2: Swim at the surfa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blem no.3: The weather will affect the current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e.g. strong winds make rippling waves across a swimming poo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lution no.3: Do the experiment on sunny days only, and make sure no one is swimming in front of you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7"/>
          <p:cNvSpPr/>
          <p:nvPr/>
        </p:nvSpPr>
        <p:spPr>
          <a:xfrm flipV="1">
            <a:off x="5029200" y="15238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5029200" y="28954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486400" y="297180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11"/>
          <p:cNvSpPr/>
          <p:nvPr/>
        </p:nvSpPr>
        <p:spPr>
          <a:xfrm rot="5400000">
            <a:off x="6514920" y="2857320"/>
            <a:ext cx="152280" cy="7632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4952880" y="1371600"/>
            <a:ext cx="152640" cy="152280"/>
          </a:xfrm>
          <a:prstGeom prst="triangle">
            <a:avLst>
              <a:gd name="adj" fmla="val 3854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724280" y="1523880"/>
            <a:ext cx="228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4"/>
          <p:cNvSpPr/>
          <p:nvPr/>
        </p:nvSpPr>
        <p:spPr>
          <a:xfrm>
            <a:off x="5029200" y="1523880"/>
            <a:ext cx="99072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5"/>
          <p:cNvSpPr/>
          <p:nvPr/>
        </p:nvSpPr>
        <p:spPr>
          <a:xfrm>
            <a:off x="6019920" y="25146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mph" presetID="15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425"/>
                            </p:stCondLst>
                            <p:childTnLst>
                              <p:par>
                                <p:cTn id="109" nodeType="afterEffect" fill="hold" presetClass="emph" presetID="15">
                                  <p:stCondLst>
                                    <p:cond delay="5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indefinite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4875"/>
                            </p:stCondLst>
                            <p:childTnLst>
                              <p:par>
                                <p:cTn id="112" nodeType="afterEffect" fill="hold" presetClass="emph" presetID="15">
                                  <p:stCondLst>
                                    <p:cond delay="5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mph" presetID="15">
                                  <p:stCondLst>
                                    <p:cond delay="3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indefinite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125"/>
                            </p:stCondLst>
                            <p:childTnLst>
                              <p:par>
                                <p:cTn id="118" nodeType="afterEffect" fill="hold" presetClass="emph" presetID="15">
                                  <p:stCondLst>
                                    <p:cond delay="7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6100"/>
                            </p:stCondLst>
                            <p:childTnLst>
                              <p:par>
                                <p:cTn id="121" nodeType="afterEffect" fill="hold" presetClass="emph" presetID="15">
                                  <p:stCondLst>
                                    <p:cond delay="7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indefinite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FINA.c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wikipedia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02:47:46Z</dcterms:created>
  <dc:creator> </dc:creator>
  <dc:description/>
  <dc:language>en-US</dc:language>
  <cp:lastModifiedBy>Andy Tan Y T</cp:lastModifiedBy>
  <dcterms:modified xsi:type="dcterms:W3CDTF">2010-04-11T10:33:39Z</dcterms:modified>
  <cp:revision>15</cp:revision>
  <dc:subject/>
  <dc:title>IRS Project</dc:title>
</cp:coreProperties>
</file>